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3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520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645768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624640" y="6457680"/>
            <a:ext cx="43034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708B-880F-4664-9067-5848A733D6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6CA5-25B7-491C-8690-A093194805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0E8E-5E9F-4ACE-83BB-19DE15141C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24D9-DEAF-4856-86C3-BCFF8AB294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65D0-5CBF-4BAF-A630-0ED65C6025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DGENTR-signature-flag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24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9"/>
                </a:solidFill>
                <a:latin typeface="Arial"/>
              </a:rPr>
              <a:t>« Regulation 305/2011/EU: Construction Products Regulation (CPR)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« From the problems of the CPD to the objectives of the CP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Vicente Leoz Argü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5fa9"/>
                </a:solidFill>
                <a:latin typeface="Arial"/>
              </a:rPr>
              <a:t>From the problems of the Directive to the objectives of the Regulation: Essential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1. Elements of conceptual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fact of replacing the Directive by a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Regulation highlights more clearly than the Directive the main differences with the « New Approach 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Basic Requirements of Works (instead of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 Essential 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Essential Product Caracteristics (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new concept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DoP (Declaration of Performance) is the key-concept of the CP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CE marking has a clear meaning, very different from the meaning of this term under the « New Approach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2. Elements of functional CLARIFICATION</a:t>
            </a:r>
            <a:br>
              <a:rPr sz="2400"/>
            </a:b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(rights and obliga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fa9"/>
                </a:solidFill>
                <a:latin typeface="Arial"/>
              </a:rPr>
              <a:t>The Basic Requirements of Works (Annex I) do not create « per se » any legal obligation for an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is mandatory for every construction product which is covered by a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harmonised standard or conforms to a European Technical Assessment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(Art.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shall contain information about the use of the product foreseen by the manufacturer (Art.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the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 list of the essential characteristics which are considered pertinent in the relevant harmonised technical specification, for the declared intended use or us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performance of at least one of the essential characteristics of the construction product in that list (NPD for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mandatory if a DoP has been drawn up(Art.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the only marking associated with the essential characteristics of the products. No other mark, notably national marks, can make reference t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CE marking shall be followed by the declared  level or class of the performance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  <a:ea typeface="Arial"/>
              </a:rPr>
              <a:t>(Art. 9(2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Thank you for your attention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ttp</a:t>
            </a:r>
            <a:r>
              <a:rPr b="1" lang="fr-BE" sz="3200" spc="-1" strike="noStrike">
                <a:solidFill>
                  <a:srgbClr val="000099"/>
                </a:solidFill>
                <a:latin typeface="Arial"/>
              </a:rPr>
              <a:t>://ec.europa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.eu/enterprise/construction/index_en.ht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leozavi</cp:lastModifiedBy>
  <cp:lastPrinted>2008-06-02T19:37:29Z</cp:lastPrinted>
  <dcterms:modified xsi:type="dcterms:W3CDTF">2011-06-22T16:32:56Z</dcterms:modified>
  <cp:revision>16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51541</vt:r8>
  </property>
  <property fmtid="{D5CDD505-2E9C-101B-9397-08002B2CF9AE}" pid="3" name="_AuthorEmail">
    <vt:lpwstr>Vicente.Leoz-Arguelles@ec.europa.eu</vt:lpwstr>
  </property>
  <property fmtid="{D5CDD505-2E9C-101B-9397-08002B2CF9AE}" pid="4" name="_AuthorEmailDisplayName">
    <vt:lpwstr>LEOZ ARGUELLES Vicente (ENTR)</vt:lpwstr>
  </property>
  <property fmtid="{D5CDD505-2E9C-101B-9397-08002B2CF9AE}" pid="5" name="_EmailSubject">
    <vt:lpwstr>CPR.ppt</vt:lpwstr>
  </property>
  <property fmtid="{D5CDD505-2E9C-101B-9397-08002B2CF9AE}" pid="6" name="_NewReviewCycle">
    <vt:lpwstr/>
  </property>
</Properties>
</file>